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9FBBA-A312-4615-AE72-DF2FAD2AF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9DAF2-68D4-4CFF-8E12-D5E342D68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F2DAC-D7FE-40D1-86F0-FEC6F50DF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D5CD5-C5BE-4A28-A0F7-5911D2AE5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125A6-B8C8-4AD9-9592-CA868BC79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46C27-FE88-4C85-B585-BFD4EB01A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D7C41-176F-4E05-9E3D-C69E5EBBB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ACAB6-A256-4022-A9CB-E4659E151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E44BE-B032-4667-AA61-C947D4234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17FFC-9D7A-473E-B164-5DBECABEF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5F701-B6EB-44A3-A97A-8CAE30B64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69CBD-98D2-453A-B45B-CAB37FF83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7F0B-AC5B-401E-8520-5123371311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9bbb59"/>
          </a:solidFill>
          <a:ln w="25560">
            <a:solidFill>
              <a:srgbClr val="71893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lorida Social Studi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unshine State Standard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rade Level Expectatio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LStandards.or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9bbb59"/>
          </a:solidFill>
          <a:ln w="25560">
            <a:solidFill>
              <a:srgbClr val="71893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lide 1:  Sunshine State Standards/Implementation </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nshine State Standards- align curriculum, instruction and assessment in the state of Florid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tricts, schools, and educators have the responsibility of designing instruction to teach the standar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Grade Level Expectations (GLEs) are based on the SSS and are organized by benchmarks; basis for state assessments in reading and math</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9bbb59"/>
          </a:solidFill>
          <a:ln w="25560">
            <a:solidFill>
              <a:srgbClr val="71893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lide 2:  Using the Grade Level Expectations</a:t>
            </a:r>
            <a:endParaRPr b="0" lang="en-US" sz="4000" spc="-1" strike="noStrike">
              <a:solidFill>
                <a:srgbClr val="000000"/>
              </a:solidFill>
              <a:latin typeface="Calibri"/>
            </a:endParaRPr>
          </a:p>
        </p:txBody>
      </p:sp>
      <p:sp>
        <p:nvSpPr>
          <p:cNvPr id="46"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e as a basis for curriculum develo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intended to limit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Districts, schools, teachers, and students are encouraged to extend the content and achievement expected as they feel it is appropri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program being used can be modified to meet the necessary benchmarks; all must be met by grade 5 for elementary studen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  A second grader is required to know “ways in which technology changes the way people in the community liv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technological influences would be impossible to teach in the allotted time but the “teacher would need to select for study, some ways that would contribute to the students’ understanding of the topic.”- AKA… your PROFESSIONAL interpretation</a:t>
            </a:r>
            <a:endParaRPr b="0" lang="en-US" sz="3200" spc="-1" strike="noStrike">
              <a:solidFill>
                <a:srgbClr val="000000"/>
              </a:solidFill>
              <a:latin typeface="Calibri"/>
            </a:endParaRPr>
          </a:p>
        </p:txBody>
      </p:sp>
      <p:sp>
        <p:nvSpPr>
          <p:cNvPr id="48" name="PlaceHolder 1"/>
          <p:cNvSpPr>
            <a:spLocks noGrp="1"/>
          </p:cNvSpPr>
          <p:nvPr>
            <p:ph type="title"/>
          </p:nvPr>
        </p:nvSpPr>
        <p:spPr>
          <a:xfrm>
            <a:off x="457200" y="274320"/>
            <a:ext cx="8229600" cy="1143000"/>
          </a:xfrm>
          <a:prstGeom prst="rect">
            <a:avLst/>
          </a:prstGeom>
          <a:solidFill>
            <a:srgbClr val="9bbb59"/>
          </a:solidFill>
          <a:ln w="25560">
            <a:solidFill>
              <a:srgbClr val="71893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lide 3:  Using the Grade Level Expectations (continu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9bbb59"/>
          </a:solidFill>
          <a:ln w="25560">
            <a:solidFill>
              <a:srgbClr val="71893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lide 4:  Numbering System for GLEs</a:t>
            </a: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easy reference, each Grade Level Expectation has been assigned a unique identification cod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numbering system used builds upon the already existing numbering system for the strands, standards, and benchmarks that make up the Sunshine State Standar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e sampl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0:58:06Z</dcterms:created>
  <dc:creator>spalding</dc:creator>
  <dc:description/>
  <dc:language>en-US</dc:language>
  <cp:lastModifiedBy>spalding</cp:lastModifiedBy>
  <dcterms:modified xsi:type="dcterms:W3CDTF">2008-09-24T18:58:23Z</dcterms:modified>
  <cp:revision>4</cp:revision>
  <dc:subject/>
  <dc:title>Florida Social Studies</dc:title>
</cp:coreProperties>
</file>